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3C4-B00B-44C9-84F4-8A144DDD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0AE-3419-4FF6-B6BC-6A42A33D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F5E-B7D6-42B5-97CF-DF449BD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4DC-6BC0-4310-B8A4-7F96D327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1BAC-15BE-4814-A65E-B135611C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E43-DB9D-4B72-947B-26EB1D5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AC2D-ABE0-460A-AB9E-1996F49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BCA8-0E7C-4DDC-83BE-7612E60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8E5A-92CA-4614-865C-431C1F3D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BF4D-E384-4D63-94B5-292863C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EACA-DBD3-47D0-84F5-41BA60B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880-1A04-4007-AE03-97A6398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B67B-85BE-48A0-B0EE-D7405E68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BF77-0E52-40B3-8861-B78D780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4792-BB1E-4537-BE66-2C51DE4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380-CDCB-4B3D-93D8-CCF5A19D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6076-DF76-4234-8FF7-EB6149E0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70C-BF0B-4B3D-844C-976C6619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0A7-544C-44E9-B338-6AE8235B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E74-E5DA-4FD9-9283-48003CB4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311-97DE-46A8-A2DC-536786D1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DF6-07A2-40C4-94AF-3FECEE8E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016-6295-4298-879A-B4106FE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FDB-471C-4FAD-9542-48EE85FD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-9360" y="0"/>
            <a:ext cx="4809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53360" cy="6858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AutoShape 9"/>
          <p:cNvSpPr/>
          <p:nvPr/>
        </p:nvSpPr>
        <p:spPr>
          <a:xfrm>
            <a:off x="304920" y="289080"/>
            <a:ext cx="7670520" cy="64440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7D72-E421-461E-9668-0659A2FE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2771640" y="549360"/>
            <a:ext cx="6372360" cy="394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9360" y="9360"/>
            <a:ext cx="147348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4267080"/>
            <a:ext cx="9153360" cy="110340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1473120" y="5105520"/>
            <a:ext cx="7137360" cy="533160"/>
          </a:xfrm>
          <a:prstGeom prst="roundRect">
            <a:avLst>
              <a:gd name="adj" fmla="val 16667"/>
            </a:avLst>
          </a:prstGeom>
          <a:solidFill>
            <a:srgbClr val="1d494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254480" y="5838840"/>
            <a:ext cx="1079640" cy="635760"/>
            <a:chOff x="4254480" y="5838840"/>
            <a:chExt cx="1079640" cy="635760"/>
          </a:xfrm>
        </p:grpSpPr>
        <p:sp>
          <p:nvSpPr>
            <p:cNvPr id="51" name="Text Box 14"/>
            <p:cNvSpPr/>
            <p:nvPr/>
          </p:nvSpPr>
          <p:spPr>
            <a:xfrm>
              <a:off x="425448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716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 rot="5400000">
              <a:off x="464832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94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F5CF-0533-4D51-A56C-D99F745B621F}" type="slidenum">
              <a:rPr b="0" lang="en-US" sz="1200" spc="-1" strike="noStrike">
                <a:solidFill>
                  <a:srgbClr val="1d49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4190760"/>
            <a:ext cx="4897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lide Power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512784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ca3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1b05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1b05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85f32"/>
              </a:gs>
              <a:gs pos="50000">
                <a:srgbClr val="c1b05d"/>
              </a:gs>
              <a:gs pos="100000">
                <a:srgbClr val="685f3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b703b"/>
              </a:gs>
              <a:gs pos="100000">
                <a:srgbClr val="c1b05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58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62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e8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3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69e86">
                  <a:alpha val="32156"/>
                </a:srgbClr>
              </a:gs>
              <a:gs pos="100000">
                <a:srgbClr val="2f493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75649"/>
              </a:gs>
              <a:gs pos="50000">
                <a:srgbClr val="669e86"/>
              </a:gs>
              <a:gs pos="100000">
                <a:srgbClr val="37564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16455"/>
              </a:gs>
              <a:gs pos="100000">
                <a:srgbClr val="669e8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66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67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68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69" name="Oval 27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0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1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272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3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4" name="Oval 32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5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76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77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8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79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12952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8ca35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556272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6" name="Oval 35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7" name="Oval 36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8" name="Oval 37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89" name="Oval 38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0" name="Oval 39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92" name="Oval 41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293" name="Group 42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4" name="Oval 43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5" name="Oval 44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7" name="Oval 46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98" name="Text Box 47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299" name="Oval 48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0" name="Oval 49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1" name="Oval 50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3" name="Oval 52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0" name="Text Box 59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86563">
                  <a:alpha val="0"/>
                </a:srgbClr>
              </a:gs>
              <a:gs pos="100000">
                <a:srgbClr val="3f7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f7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19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0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1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3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6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27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29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1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2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34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5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36" name="Oval 27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8e0c9"/>
                </a:gs>
                <a:gs pos="100000">
                  <a:srgbClr val="8ca35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37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ca35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8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ca35f">
                  <a:alpha val="32156"/>
                </a:srgbClr>
              </a:gs>
              <a:gs pos="100000">
                <a:srgbClr val="414b2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39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c5833"/>
              </a:gs>
              <a:gs pos="50000">
                <a:srgbClr val="8ca35f"/>
              </a:gs>
              <a:gs pos="100000">
                <a:srgbClr val="4c58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0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9683c"/>
              </a:gs>
              <a:gs pos="100000">
                <a:srgbClr val="8ca3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341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2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3" name="Oval 33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4" name="Oval 34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5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46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347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49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0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353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7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8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0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1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62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5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6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67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2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3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4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5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0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3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384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6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7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88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389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0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1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2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3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394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6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7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398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03" name="Group 6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04" name="Freeform 7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07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08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0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1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15" name="Group 18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16" name="Oval 19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7" name="Oval 20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Group 23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21" name="Group 24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22" name="Freeform 25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3" name="Freeform 26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25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26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29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0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31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432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3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4" name="Oval 37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5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38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9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0" name="Freeform 43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44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42" name="Freeform 45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43" name="Freeform 46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47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45" name="Oval 48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6" name="Oval 49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7" name="Oval 50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8" name="Oval 51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49" name="Oval 52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50" name="Group 53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51" name="Oval 54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2" name="Oval 55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3" name="Oval 56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4" name="Oval 57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58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56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57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58" name="Freeform 61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2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60" name="Freeform 63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61" name="Freeform 64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Group 65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63" name="Oval 66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4" name="Oval 67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5" name="Oval 68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6" name="Oval 69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467" name="Oval 70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468" name="Group 71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9" name="Oval 72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0" name="Oval 73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1" name="Oval 74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472" name="Oval 75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4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5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6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7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8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79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0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494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1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2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3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cxnSp>
        <p:nvCxnSpPr>
          <p:cNvPr id="485" name="AutoShape 88"/>
          <p:cNvCxnSpPr>
            <a:stCxn id="481" idx="3"/>
            <a:endCxn id="482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6" name="AutoShape 89"/>
          <p:cNvCxnSpPr>
            <a:stCxn id="482" idx="3"/>
            <a:endCxn id="483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  <p:cxnSp>
        <p:nvCxnSpPr>
          <p:cNvPr id="487" name="AutoShape 90"/>
          <p:cNvCxnSpPr>
            <a:stCxn id="483" idx="3"/>
            <a:endCxn id="484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1d49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ca35f"/>
              </a:gs>
              <a:gs pos="100000">
                <a:srgbClr val="414b2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00" name="Group 7"/>
          <p:cNvGrpSpPr/>
          <p:nvPr/>
        </p:nvGrpSpPr>
        <p:grpSpPr>
          <a:xfrm>
            <a:off x="1111680" y="1553040"/>
            <a:ext cx="6437160" cy="1388520"/>
            <a:chOff x="1111680" y="1553040"/>
            <a:chExt cx="6437160" cy="1388520"/>
          </a:xfrm>
        </p:grpSpPr>
        <p:sp>
          <p:nvSpPr>
            <p:cNvPr id="50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2" name="Group 9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0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5" name="Oval 12"/>
              <p:cNvSpPr/>
              <p:nvPr/>
            </p:nvSpPr>
            <p:spPr>
              <a:xfrm>
                <a:off x="307692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3154680" y="199368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07" name="Rectangle 14"/>
            <p:cNvSpPr/>
            <p:nvPr/>
          </p:nvSpPr>
          <p:spPr>
            <a:xfrm rot="3418800">
              <a:off x="304308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08" name="Group 15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9" name="Oval 16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0" name="Rectangle 17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1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2" name="Oval 19"/>
              <p:cNvSpPr/>
              <p:nvPr/>
            </p:nvSpPr>
            <p:spPr>
              <a:xfrm>
                <a:off x="487440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20"/>
            <p:cNvSpPr/>
            <p:nvPr/>
          </p:nvSpPr>
          <p:spPr>
            <a:xfrm rot="3418800">
              <a:off x="4692960" y="1711440"/>
              <a:ext cx="924480" cy="1006920"/>
            </a:xfrm>
            <a:prstGeom prst="rect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414b2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514" name="Group 21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15" name="Oval 22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6" name="Rectangle 23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7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518" name="Oval 25"/>
              <p:cNvSpPr/>
              <p:nvPr/>
            </p:nvSpPr>
            <p:spPr>
              <a:xfrm>
                <a:off x="686196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26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2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762120" y="1752480"/>
          <a:ext cx="7619760" cy="370224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4940"/>
                      </a:solidFill>
                    </a:lnR>
                    <a:lnT>
                      <a:noFill/>
                    </a:lnT>
                    <a:lnB w="5760">
                      <a:solidFill>
                        <a:srgbClr val="1d49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494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a2cab4"/>
                        </a:gs>
                        <a:gs pos="100000">
                          <a:srgbClr val="cfe4d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494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940"/>
                      </a:solidFill>
                    </a:lnL>
                    <a:lnR w="5760">
                      <a:solidFill>
                        <a:srgbClr val="1d4940"/>
                      </a:solidFill>
                    </a:lnR>
                    <a:lnT w="5760">
                      <a:solidFill>
                        <a:srgbClr val="1d4940"/>
                      </a:solidFill>
                    </a:lnT>
                    <a:lnB w="5760">
                      <a:solidFill>
                        <a:srgbClr val="1d4940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3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4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b6c59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76e5e"/>
                </a:gs>
                <a:gs pos="100000">
                  <a:srgbClr val="669e8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6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8ca35f"/>
                </a:gs>
                <a:gs pos="100000">
                  <a:srgbClr val="ced8b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7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a2cab4"/>
                </a:gs>
                <a:gs pos="100000">
                  <a:srgbClr val="4b5d5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0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8ca35f">
                    <a:alpha val="19215"/>
                  </a:srgbClr>
                </a:gs>
                <a:gs pos="100000">
                  <a:srgbClr val="b2c2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2c689"/>
                </a:gs>
                <a:gs pos="100000">
                  <a:srgbClr val="c1b0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5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6f6536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c1b05d"/>
                </a:gs>
                <a:gs pos="100000">
                  <a:srgbClr val="d8cd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7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716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5" name="Oval 7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6" name="Oval 8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7" name="Oval 9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c1b05d">
                    <a:alpha val="85098"/>
                  </a:srgbClr>
                </a:gs>
                <a:gs pos="100000">
                  <a:srgbClr val="7b70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8" name="Oval 10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8c80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5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2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1" name="Group 13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2" name="Oval 14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3" name="Oval 15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4" name="Oval 16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85098"/>
                  </a:srgbClr>
                </a:gs>
                <a:gs pos="100000">
                  <a:srgbClr val="41645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65" name="Oval 17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4a73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6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9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68" name="Group 20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9" name="Oval 21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0" name="Oval 22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1" name="Oval 23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a35f">
                    <a:alpha val="85098"/>
                  </a:srgbClr>
                </a:gs>
                <a:gs pos="100000">
                  <a:srgbClr val="596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2" name="Oval 24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6676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7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6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575" name="Group 27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6" name="Oval 28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7" name="Oval 29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8" name="Oval 30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716f">
                    <a:alpha val="85098"/>
                  </a:srgbClr>
                </a:gs>
                <a:gs pos="100000">
                  <a:srgbClr val="284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79" name="Oval 31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16f"/>
                </a:gs>
                <a:gs pos="100000">
                  <a:srgbClr val="2e52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pic>
          <p:nvPicPr>
            <p:cNvPr id="58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33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98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2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414b2c"/>
                </a:gs>
                <a:gs pos="100000">
                  <a:srgbClr val="8ca35f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83" name="WordArt 3"/>
          <p:cNvSpPr txBox="1"/>
          <p:nvPr/>
        </p:nvSpPr>
        <p:spPr>
          <a:xfrm>
            <a:off x="2362320" y="43434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4940"/>
                    </a:gs>
                    <a:gs pos="100000">
                      <a:srgbClr val="a2cab4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4940"/>
                  </a:gs>
                  <a:gs pos="100000">
                    <a:srgbClr val="a2cab4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523880" y="5181480"/>
            <a:ext cx="664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494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9e86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f71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e86"/>
              </a:gs>
              <a:gs pos="100000">
                <a:srgbClr val="cee0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35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36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ca35f"/>
                  </a:gs>
                  <a:gs pos="100000">
                    <a:srgbClr val="444f2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cd6b8"/>
                  </a:gs>
                  <a:gs pos="100000">
                    <a:srgbClr val="8ca3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</p:grpSp>
        <p:sp>
          <p:nvSpPr>
            <p:cNvPr id="138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493e"/>
                </a:gs>
                <a:gs pos="100000">
                  <a:srgbClr val="669e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69e86">
                    <a:alpha val="0"/>
                  </a:srgbClr>
                </a:gs>
                <a:gs pos="100000">
                  <a:srgbClr val="cadd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17d6a"/>
                </a:gs>
                <a:gs pos="100000">
                  <a:srgbClr val="669e8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e8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143000" y="1722240"/>
            <a:ext cx="7328520" cy="4583520"/>
            <a:chOff x="1143000" y="1722240"/>
            <a:chExt cx="7328520" cy="4583520"/>
          </a:xfrm>
        </p:grpSpPr>
        <p:sp>
          <p:nvSpPr>
            <p:cNvPr id="146" name="Freeform 4"/>
            <p:cNvSpPr/>
            <p:nvPr/>
          </p:nvSpPr>
          <p:spPr>
            <a:xfrm rot="20241600">
              <a:off x="17726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 rot="20056200">
              <a:off x="47239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8" name="Oval 6"/>
            <p:cNvSpPr/>
            <p:nvPr/>
          </p:nvSpPr>
          <p:spPr>
            <a:xfrm rot="20056200">
              <a:off x="73908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 rot="20056200">
              <a:off x="327600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0" name="Oval 8"/>
            <p:cNvSpPr/>
            <p:nvPr/>
          </p:nvSpPr>
          <p:spPr>
            <a:xfrm rot="20056200">
              <a:off x="586692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 rot="20056200">
              <a:off x="243792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42019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ca35f"/>
                </a:gs>
                <a:gs pos="100000">
                  <a:srgbClr val="3038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19666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e86"/>
                </a:gs>
                <a:gs pos="100000">
                  <a:srgbClr val="2032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27511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2cab4"/>
                </a:gs>
                <a:gs pos="100000">
                  <a:srgbClr val="3a48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52196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68450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c1b05d"/>
                </a:gs>
                <a:gs pos="100000">
                  <a:srgbClr val="433d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22042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8" name="Text Box 16"/>
            <p:cNvSpPr/>
            <p:nvPr/>
          </p:nvSpPr>
          <p:spPr>
            <a:xfrm>
              <a:off x="4507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71175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55252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0153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098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494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2982960" y="2452680"/>
              <a:ext cx="1627200" cy="125100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cxnSp>
          <p:nvCxnSpPr>
            <p:cNvPr id="164" name="AutoShape 22"/>
            <p:cNvCxnSpPr/>
            <p:nvPr/>
          </p:nvCxnSpPr>
          <p:spPr>
            <a:xfrm flipH="1">
              <a:off x="1267560" y="2452320"/>
              <a:ext cx="1726200" cy="1080"/>
            </a:xfrm>
            <a:prstGeom prst="straightConnector1">
              <a:avLst/>
            </a:prstGeom>
            <a:ln w="9360">
              <a:solidFill>
                <a:srgbClr val="1d4940"/>
              </a:solidFill>
              <a:miter/>
            </a:ln>
          </p:spPr>
        </p:cxnSp>
        <p:sp>
          <p:nvSpPr>
            <p:cNvPr id="165" name="Text Box 23"/>
            <p:cNvSpPr/>
            <p:nvPr/>
          </p:nvSpPr>
          <p:spPr>
            <a:xfrm>
              <a:off x="11430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f716f"/>
              </a:gs>
              <a:gs pos="100000">
                <a:srgbClr val="1d343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1d3433">
                  <a:alpha val="12156"/>
                </a:srgbClr>
              </a:gs>
              <a:gs pos="100000">
                <a:srgbClr val="3f7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14b2c"/>
              </a:gs>
              <a:gs pos="50000">
                <a:srgbClr val="8ca35f"/>
              </a:gs>
              <a:gs pos="100000">
                <a:srgbClr val="414b2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716f"/>
              </a:gs>
              <a:gs pos="100000">
                <a:srgbClr val="85a5a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e"/>
              </a:gs>
              <a:gs pos="50000">
                <a:srgbClr val="44bd41"/>
              </a:gs>
              <a:gs pos="100000">
                <a:srgbClr val="1f57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5a5a4">
                  <a:alpha val="12156"/>
                </a:srgbClr>
              </a:gs>
              <a:gs pos="100000">
                <a:srgbClr val="3f71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87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f716f"/>
                </a:gs>
                <a:gs pos="100000">
                  <a:srgbClr val="b4c7c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ca35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c5833"/>
                </a:gs>
                <a:gs pos="50000">
                  <a:srgbClr val="8ca35f"/>
                </a:gs>
                <a:gs pos="100000">
                  <a:srgbClr val="4c58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196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9512b"/>
              </a:gs>
              <a:gs pos="50000">
                <a:srgbClr val="c1b05d"/>
              </a:gs>
              <a:gs pos="100000">
                <a:srgbClr val="5951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493e"/>
              </a:gs>
              <a:gs pos="50000">
                <a:srgbClr val="669e86"/>
              </a:gs>
              <a:gs pos="100000">
                <a:srgbClr val="2f49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0"/>
          </a:gradFill>
          <a:ln w="381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94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2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3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d49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d494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29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0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4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5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237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494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33520" y="12952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8380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e86"/>
              </a:gs>
              <a:gs pos="100000">
                <a:srgbClr val="2f493e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8380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380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a2cab4"/>
              </a:gs>
              <a:gs pos="100000">
                <a:srgbClr val="4b5d53"/>
              </a:gs>
            </a:gsLst>
            <a:lin ang="5400000"/>
          </a:gradFill>
          <a:ln w="255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494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5:30Z</dcterms:created>
  <dc:creator>Admin</dc:creator>
  <dc:description/>
  <dc:language>en-US</dc:language>
  <cp:lastModifiedBy>Nga</cp:lastModifiedBy>
  <dcterms:modified xsi:type="dcterms:W3CDTF">2017-09-15T09:01:54Z</dcterms:modified>
  <cp:revision>3</cp:revision>
  <dc:subject/>
  <dc:title>PowerPoint Template</dc:title>
</cp:coreProperties>
</file>